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157-54A1-4755-A6F2-C4C2CAC5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D44-5219-4E7E-A22A-36D32990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EEF-CA56-40DF-AED2-DA3D9009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4EC-EFBE-4CCA-B4DF-1BAF5503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4E16-8ADB-47C4-A4E7-6DF923E3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E271-D424-4C00-A9DE-AA75D0E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765C-37BB-4E72-A559-8DC805AD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FB9D-C318-4407-B5B3-70B38689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00E7-4D31-4F4E-906A-58225684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1897-613D-4A6B-998A-EB2D0080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E270-8EF8-439E-A990-D0CE32C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76E-C01E-478D-8EFD-AFE2B98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2641-980D-46A2-8DE5-77D7F594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7C8C-30C6-47FB-9FDD-CDA6B05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71AE-3501-48DA-9403-28CFE321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60B5-65D7-44E3-8BC8-BFFCEBAA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CB5B-802F-4B21-BA4A-8652C5C7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17B-31AE-4F39-9257-4CC0AA73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044-28D0-450F-B372-26EE8289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C42-D391-4DF4-A6DC-055B4DBF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E1F-FCC7-4252-825B-898022FF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00E-C288-49A3-803B-24CDA61C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F16-8121-4728-B693-5BC376BF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3D0-7B9A-49BA-B976-03A20F13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8600-B008-4024-AC6F-BF365B65A0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3427-046C-46A3-96C4-37E1714A98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352b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070000%5B1%5D.wav" TargetMode="External"/><Relationship Id="rId2" Type="http://schemas.microsoft.com/office/2007/relationships/media" Target="file:///tmp/home/.config/libreoffice/4/user/gallery/MSj03885070000%5B1%5D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Clarendon Condensed"/>
              </a:rPr>
              <a:t>Objective:</a:t>
            </a:r>
            <a:br>
              <a:rPr sz="4400"/>
            </a:br>
            <a:r>
              <a:rPr b="0" lang="en-US" sz="4400" spc="-1" strike="noStrike">
                <a:solidFill>
                  <a:srgbClr val="e2efcd"/>
                </a:solidFill>
                <a:latin typeface="Clarendon Condensed"/>
              </a:rPr>
              <a:t>To identify transformations in figures.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4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Warm-up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is rotated (turned) through a given angle about a given poi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89548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19112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662670"/>
                <a:lnTo>
                  <a:pt x="9976" y="32"/>
                </a:lnTo>
                <a:arcTo wR="10800" hR="10800" stAng="-5662670" swAng="566267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314520" y="476244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52880" y="511812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5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5000" y="15228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Rotation - 90</a:t>
            </a:r>
            <a:r>
              <a:rPr b="0" lang="en-US" sz="4400" spc="-1" strike="noStrike" baseline="30000">
                <a:solidFill>
                  <a:srgbClr val="e2efcd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 or 180</a:t>
            </a:r>
            <a:r>
              <a:rPr b="0" lang="en-US" sz="4400" spc="-1" strike="noStrike" baseline="30000">
                <a:solidFill>
                  <a:srgbClr val="e2efcd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is rotated (turned) in a direction and is named by the degree of the tur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66688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7695720" y="403848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018880" y="4686120"/>
            <a:ext cx="2133720" cy="175284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8840" y="4952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38840" y="315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274320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552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5714640" y="4800600"/>
            <a:ext cx="2133720" cy="175248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385200 h 1752480"/>
              <a:gd name="textAreaBottom" fmla="*/ 13672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83000" y="37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396252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574459"/>
                <a:lnTo>
                  <a:pt x="10252" y="14"/>
                </a:lnTo>
                <a:arcTo wR="10800" hR="10800" stAng="-5574459" swAng="557445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5320" y="6516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Rotations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90° clockw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witch the coordinates, then multiply the new y-coordinate by -1 (or just change the sig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90°counterclockwi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witch the coordinates, then multiply the new x-coordinate by -1(or just change the sig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tate a poi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80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ultiply both coordinates by -1(or change both sig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3280" y="22860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clockwise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efcd"/>
                </a:solidFill>
                <a:latin typeface="Arial"/>
              </a:rPr>
              <a:t>Rotating a Figure - Clockwise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31840" y="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counterclockwise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efcd"/>
                </a:solidFill>
                <a:latin typeface="Arial"/>
              </a:rPr>
              <a:t>Rotating a Figure - </a:t>
            </a:r>
            <a:r>
              <a:rPr b="1" lang="en-US" sz="3600" spc="-1" strike="noStrike">
                <a:solidFill>
                  <a:srgbClr val="e2efcd"/>
                </a:solidFill>
                <a:latin typeface="Arial"/>
              </a:rPr>
              <a:t>Counterclockwise</a:t>
            </a:r>
            <a:endParaRPr b="0" lang="en-US" sz="36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8000" y="-712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triangle FGH with vertices F(0,2),G(-3,1), and H(-1,1). Then draw the image after a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rotation about the origin. Name the coordinates of the rotated fig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efcd"/>
                </a:solidFill>
                <a:latin typeface="Arial"/>
              </a:rPr>
              <a:t>Rotating a Figure - 180</a:t>
            </a:r>
            <a:r>
              <a:rPr b="1" lang="en-US" sz="4000" spc="-1" strike="noStrike" baseline="30000">
                <a:solidFill>
                  <a:srgbClr val="e2efcd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962520" cy="3849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55520" y="1522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:  Students will rotate fig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r exit ticket has been turned in, you may begin your homework:  PW pg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7:23:40Z</dcterms:created>
  <dc:creator>ccps</dc:creator>
  <dc:description/>
  <dc:language>en-US</dc:language>
  <cp:lastModifiedBy>Brian McGrath</cp:lastModifiedBy>
  <dcterms:modified xsi:type="dcterms:W3CDTF">2011-05-03T03:13:27Z</dcterms:modified>
  <cp:revision>11</cp:revision>
  <dc:subject/>
  <dc:title>Obj 10.7:  To identify transformations in figures.</dc:title>
</cp:coreProperties>
</file>